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9E675-4AF2-4E0C-8938-9E94D40E3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omogućen da pomogne treneru u podsticanju rasprave o svim sesijama kursa. Trener treb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eda formular za evaluaciju pre početka ove sesije. U nekim okolnostima može biti odgovarajuće izdavanje obrazaca za evaluaciju na početku kursa, kako bi ih delegati mogli završiti tokom kursa i kada su sesij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oš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veže u njihovom umu. Na kraju kurs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često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ostoji tendencija d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ih učesnici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popune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u potpu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905DB-1BA7-49D2-9B07-101647413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CF1E6-5B33-42DF-9A0A-31E917EF2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52B0D-FB3E-447B-9100-7FBD915C0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1158A-8BD4-49F8-BAC6-B76A924868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2E93-974C-41F3-A213-7F59A2CD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A48-9F30-4EDC-BBA7-03FAB51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47E-F652-4CD5-B31E-88A81020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14F-7AAE-413F-97A7-C1ED7C7E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15E-E6A9-40D1-9E15-48B98989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28A-193B-4AC2-BAE4-A4A6034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F07-E362-45EC-90CE-9C2DFFBF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CF6-6B0C-49B9-A8BA-A5E3F4AB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36B1-4A32-41E2-B396-752955D0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3F1-1A02-4863-97E7-871933A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077-1616-4D61-B982-C41D11D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6AD-044E-4CB4-B6A2-24D1C826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BEFAE-541F-44FF-98D1-A24D009C3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371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</a:t>
            </a: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ja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Završetak ku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85800" y="2208240"/>
            <a:ext cx="77724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Uvodna obuka o internet kriminalu</a:t>
            </a:r>
            <a:r>
              <a:rPr b="0" lang="en-GB" sz="4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elektronskim dokazima i prihodima od internet kriminal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234800"/>
            <a:ext cx="8093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Na kraju ove sesije učesnici će moći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Obezbede odgovarajuće povratne informacije o kursu i njegovoj efikas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opune obrazac za evaluaciju ku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Utvrde sledeći nivo učenja koj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i je neophodan</a:t>
            </a: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 kako bi poboljšali svoje znanje i veštine u predme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Cilej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8440" y="2076480"/>
          <a:ext cx="8020080" cy="4311720"/>
        </p:xfrm>
        <a:graphic>
          <a:graphicData uri="http://schemas.openxmlformats.org/drawingml/2006/table">
            <a:tbl>
              <a:tblPr/>
              <a:tblGrid>
                <a:gridCol w="8020080"/>
              </a:tblGrid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varanje kursa, uvod i prezentacija ciljeva i sadržaja obu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internet kriminal, pretnje, trendovi i izazo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tehnologi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dur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55480" y="1465200"/>
          <a:ext cx="8082000" cy="4838760"/>
        </p:xfrm>
        <a:graphic>
          <a:graphicData uri="http://schemas.openxmlformats.org/drawingml/2006/table">
            <a:tbl>
              <a:tblPr/>
              <a:tblGrid>
                <a:gridCol w="8082000"/>
              </a:tblGrid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finasijske ist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n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 dokaz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sa i postup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đunarodna saradnja i saradnja javnog i privatnog sek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ovanje osumnjičenih na interne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kovi novca od internet kriminala i njihova tipolog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ne informacije od učesnik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anja i odgov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la sertifik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ršna re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3600" spc="-1" strike="noStrike">
                <a:solidFill>
                  <a:srgbClr val="000000"/>
                </a:solidFill>
                <a:latin typeface="Calibri"/>
              </a:rPr>
              <a:t>Obrasci za evaluaci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Zahteva ga SE za evalu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ti se za poboljšanje kursa u buduć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ni su samo ako ih popu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Molimo da popunite i predate tren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07908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Aleksandra</cp:lastModifiedBy>
  <dcterms:modified xsi:type="dcterms:W3CDTF">2017-10-10T14:28:49Z</dcterms:modified>
  <cp:revision>37</cp:revision>
  <dc:subject/>
  <dc:title>Introductory Cybercrime Training for Judges and Prosecutors</dc:title>
</cp:coreProperties>
</file>